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37960" y="763200"/>
            <a:ext cx="5492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C0032-6AF5-438F-8A39-E9C1162690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6CD-A689-41D7-AB52-E4777515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90676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98120"/>
            <a:ext cx="90676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87C6-B7B6-4C65-BEFA-E0647DC2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98120"/>
            <a:ext cx="44247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98120"/>
            <a:ext cx="44247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0DB9-9A41-499C-82C1-324B6802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29196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165040"/>
            <a:ext cx="29196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2165040"/>
            <a:ext cx="29196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98120"/>
            <a:ext cx="29196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98120"/>
            <a:ext cx="29196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98120"/>
            <a:ext cx="29196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0F76-D57B-40D0-8949-F596E953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2165040"/>
            <a:ext cx="90676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35C-3758-4FDB-8291-1647A347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90676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D8B-F392-4680-A89B-1DD8D02A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119D-E8C4-462F-AB10-B5F7F30C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67F8-FD60-45AA-B27B-66EA43C6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102-B748-43EE-8140-F59CF1DB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98120"/>
            <a:ext cx="44247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6F3-BF1E-493A-B708-FEC50B1D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98120"/>
            <a:ext cx="44247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B17-B486-4135-AA5B-E9932694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47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2165040"/>
            <a:ext cx="442476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98120"/>
            <a:ext cx="90676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C24-7F30-4369-BFAB-28E222F0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76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AF92F-A50C-4178-8961-B36152AA8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Pars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9920" y="1754280"/>
            <a:ext cx="907092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idn't have much money, but he w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 in holy thought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believed strongly in practicing what he preach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moral and hum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son Continued..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2165040"/>
            <a:ext cx="90709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iligently took care of his congregation and nothing could stop him from checking on his parishio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d a burden for converting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Christian pri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turned down an opportunity to make lots of money, because he chose to stay home and care for his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4:28:01Z</dcterms:created>
  <dc:creator>PCSC</dc:creator>
  <dc:description/>
  <dc:language>en-US</dc:language>
  <cp:lastModifiedBy/>
  <cp:revision>1</cp:revision>
  <dc:subject/>
  <dc:title/>
</cp:coreProperties>
</file>